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158413" cy="825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8983-5399-4941-BF2B-B50A5E16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91440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771440"/>
            <a:ext cx="91440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A73F-ACCB-4ED7-B2B6-63A51994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7714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7714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E67E-0C68-4741-874F-7947B264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9256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9256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7714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7714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771440"/>
            <a:ext cx="29440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732-0B0E-4A67-AE20-E615DF3B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92564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4B7-EEEF-4E26-A76B-987019B0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5EB-DF37-41B3-AEDB-A6F3DF3B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44622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925640"/>
            <a:ext cx="44622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492-4E07-41A5-A0F1-7A66CB74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DF9-3E66-4B94-9AFA-667494FD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29760"/>
            <a:ext cx="9144000" cy="63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6B6E-1CF5-4FEB-B91F-B563F398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925640"/>
            <a:ext cx="44622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7714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20F-8752-4BE7-91BC-35A9A362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44622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7714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2E4C-3D0C-40D4-B673-C3C19D4E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925640"/>
            <a:ext cx="44622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771440"/>
            <a:ext cx="91440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EEA-F2AA-4140-9243-698F4BD1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29760"/>
            <a:ext cx="91440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92564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651440"/>
            <a:ext cx="23702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651440"/>
            <a:ext cx="32162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651440"/>
            <a:ext cx="23702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AE8E-9EDE-4749-A467-ACDACAC0A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77840" y="291960"/>
            <a:ext cx="34542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6"/>
              </a:rPr>
              <a:t>Opinion Pol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6"/>
              </a:rPr>
              <a:t>Tracking Pol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6"/>
              </a:rPr>
              <a:t>Push Pol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6"/>
              </a:rPr>
              <a:t>Exit Pol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6"/>
              </a:rPr>
              <a:t>Margin of Erro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lipboard(16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-12600" y="25560"/>
            <a:ext cx="1018368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lipboard(17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8160" y="101520"/>
            <a:ext cx="994572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clipboard(18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65240" y="-25560"/>
            <a:ext cx="9801000" cy="3575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lipboard(19)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57200" y="3746520"/>
            <a:ext cx="93852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clipboard(21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0760" y="533520"/>
            <a:ext cx="101599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clipboard(22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35040" y="101520"/>
            <a:ext cx="9012240" cy="667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clipboard(23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87320" y="24120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clipboard(24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143000" y="63360"/>
            <a:ext cx="7656480" cy="3762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lipboard(25)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092240" y="3987720"/>
            <a:ext cx="78073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ipboard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3360" y="203040"/>
            <a:ext cx="972684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ipboard(2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8920" y="190440"/>
            <a:ext cx="8543880" cy="309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lipboard(3)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079640" y="673200"/>
            <a:ext cx="12319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ipboard(4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8160" y="241200"/>
            <a:ext cx="9435960" cy="153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787320" y="2133720"/>
            <a:ext cx="510552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6"/>
              </a:rPr>
              <a:t>1. Health Car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6"/>
              </a:rPr>
              <a:t>2. Climate Chang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6"/>
              </a:rPr>
              <a:t>3. War in Afghanista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 - 36"/>
              </a:rPr>
              <a:t>4. Government Spending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lipboard(7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0760" y="203040"/>
            <a:ext cx="7550280" cy="363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lipboard(8)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965160" y="762120"/>
            <a:ext cx="19065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lipboard(9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14480" y="304920"/>
            <a:ext cx="980748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lipboard(10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01520" y="266760"/>
            <a:ext cx="98362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lipboard(11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52280" y="241200"/>
            <a:ext cx="9550440" cy="52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lipboard(12)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927000" y="1015920"/>
            <a:ext cx="200196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lipboard(13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52280" y="266760"/>
            <a:ext cx="9599760" cy="26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lipboard(15)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901800" y="698400"/>
            <a:ext cx="133344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8:28:27Z</dcterms:created>
  <dc:creator>Brent J. Freccia</dc:creator>
  <dc:description/>
  <dc:language>en-US</dc:language>
  <cp:lastModifiedBy>Brent J. Freccia</cp:lastModifiedBy>
  <dcterms:modified xsi:type="dcterms:W3CDTF">2010-01-26T18:28:32Z</dcterms:modified>
  <cp:revision>1</cp:revision>
  <dc:subject/>
  <dc:title>Slide 1</dc:title>
</cp:coreProperties>
</file>